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B261-179F-4040-9C2A-DD7C6ADE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BE04-7B5A-4903-BE83-120822A6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40B-3867-4930-9771-A02BBB96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F07-60A1-47EF-B0B1-A7065171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FFAB-D5F4-41CA-9D48-950A93A1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FFE-153A-4274-A3C8-CB11749D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3C9-7811-4712-B187-8AACFE73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E12-7316-4EAB-A0F1-B9E50368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855-779B-4CC5-89F7-2916D95F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1577-C04C-40FC-A9AF-595AAF60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5E8-9B40-4B1E-9264-C247C223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4256-F950-4B81-AEBB-A5BD89CB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E31E-907C-4BC8-AAD9-36BDFCCAD9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ce"/>
            </a:gs>
            <a:gs pos="50000">
              <a:srgbClr val="ccff66"/>
            </a:gs>
            <a:gs pos="100000">
              <a:srgbClr val="efff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L Balance of Pay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B 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24000" y="189000"/>
            <a:ext cx="7632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ime for you to do some wor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home read through the chapter (make notes if you wi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 - Complet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xam Q’s 1 &amp; 2 on P3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L – complet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2 x HL Exam Q’s on P3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400_F_15629419_D0yXkiKqqt3J1oxQNH7grqXflFCEHedL"/>
          <p:cNvPicPr/>
          <p:nvPr/>
        </p:nvPicPr>
        <p:blipFill>
          <a:blip r:embed="rId1"/>
          <a:stretch/>
        </p:blipFill>
        <p:spPr>
          <a:xfrm>
            <a:off x="3492360" y="2565360"/>
            <a:ext cx="51850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http://www.artsjournal.com/dewey21c/unintended_consequences.jpg"/>
          <p:cNvPicPr/>
          <p:nvPr/>
        </p:nvPicPr>
        <p:blipFill>
          <a:blip r:embed="rId1"/>
          <a:stretch/>
        </p:blipFill>
        <p:spPr>
          <a:xfrm>
            <a:off x="4381560" y="4005360"/>
            <a:ext cx="4762440" cy="272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669636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consequences of a current account def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the current account is in deficit then the capital account will have to be in surplus to balance out the def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means one of three things will have to ha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Foreign exchange reserv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y be used to increase the capital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ever, no country is able to fund long term current account deficits with reserves – eventually they will run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may be that a </a:t>
            </a: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high level of foreign buying of asse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ownership is financing the def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oreign investors may be buying property, businesses, or stocks and 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f it is based on foreign confidence in the domestic economy then this is not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sometimes viewed as a threat to sovereig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f there is a drop in confidence they move these assets to other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y could sell their assets resulting in an increase in the supply of the currency and a fall in it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may be that it is </a:t>
            </a: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financed by high levels of lending ab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igh rates of interest will have to be p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f governments lending the money decided to withdraw it this would lead to a massive selling of currency and a sharp fall in the exchang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http://3.bp.blogspot.com/-IB-qSfEKljc/T9yf_nD3V0I/AAAAAAAAAUY/vB3kdvCR71A/s1600/forgiveness-and-consequences-300x204.jpg"/>
          <p:cNvPicPr/>
          <p:nvPr/>
        </p:nvPicPr>
        <p:blipFill>
          <a:blip r:embed="rId2"/>
          <a:stretch/>
        </p:blipFill>
        <p:spPr>
          <a:xfrm>
            <a:off x="6804000" y="1557360"/>
            <a:ext cx="28576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5257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consequences of a current account sur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the current account is in surplus there will be other consequ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b0f0"/>
                </a:solidFill>
                <a:latin typeface="Arial"/>
              </a:rPr>
              <a:t>Allows a country to have a deficit on its capital accoun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y building up its official reserve account or by purchasing assets abr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However, one country’s surplus is another’s deficit and this may lead to protectionism by other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will usually lead to an </a:t>
            </a:r>
            <a:r>
              <a:rPr b="0" lang="en-GB" sz="2200" spc="-1" strike="noStrike">
                <a:solidFill>
                  <a:srgbClr val="00b0f0"/>
                </a:solidFill>
                <a:latin typeface="Arial"/>
              </a:rPr>
              <a:t>appreciation of the currency on the foreign exchange marke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 it implies an increase in demand for the curr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his will make imports cheaper so reducing inflationary pressu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t will also make exports more expensive harming expor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static5.depositphotos.com/1008768/507/i/950/depositphotos_5073168-Consequences-road-sign-clipping-path.jpg"/>
          <p:cNvPicPr/>
          <p:nvPr/>
        </p:nvPicPr>
        <p:blipFill>
          <a:blip r:embed="rId1"/>
          <a:stretch/>
        </p:blipFill>
        <p:spPr>
          <a:xfrm>
            <a:off x="5724360" y="1322280"/>
            <a:ext cx="325620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4920" y="260280"/>
            <a:ext cx="5545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How big is a ‘big’ current account deficit or surpl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are two ways to interpret the size of a country’s deficit or sur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tal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r as a proportion of 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like having an overdraft on your bank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f you earn $100,000 and you have a $10,000 overdraft this is manage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f you earn $30,000 and have a $10,000 overdraft you may be in tr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ig is only bad if you can’t pay it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rcRect l="9247" t="41146" r="25196" b="38185"/>
          <a:stretch/>
        </p:blipFill>
        <p:spPr>
          <a:xfrm>
            <a:off x="-378000" y="4403880"/>
            <a:ext cx="9722160" cy="245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HSBC-Microsite_09"/>
          <p:cNvPicPr/>
          <p:nvPr/>
        </p:nvPicPr>
        <p:blipFill>
          <a:blip r:embed="rId2"/>
          <a:stretch/>
        </p:blipFill>
        <p:spPr>
          <a:xfrm>
            <a:off x="6300720" y="2781360"/>
            <a:ext cx="268596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fashionsussex.co.uk/wp-content/uploads/2011/07/Stoves-Made-in-Britain-logo.jpg"/>
          <p:cNvPicPr/>
          <p:nvPr/>
        </p:nvPicPr>
        <p:blipFill>
          <a:blip r:embed="rId1"/>
          <a:stretch/>
        </p:blipFill>
        <p:spPr>
          <a:xfrm>
            <a:off x="6948360" y="4683240"/>
            <a:ext cx="1584360" cy="1952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561672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ethods of correcting a persistent current account def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are two types of policy used to correct a persistent current account defic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Expenditure-switching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successful imports will fall and the current account deficit should impro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030a0"/>
                </a:solidFill>
                <a:latin typeface="Arial"/>
                <a:ea typeface="Arial"/>
              </a:rPr>
              <a:t>Depreciating or devaluing the currenc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exports will become cheaper and imports more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t depends how responsive domestic and foreign buyers are to the price change but the deficit should im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030a0"/>
                </a:solidFill>
                <a:latin typeface="Arial"/>
                <a:ea typeface="Arial"/>
              </a:rPr>
              <a:t>Protectionist measur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restricting foreign imports will make domestic consumers switch spending from imports to domestic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s are often reluctant to use such measures because it may lead to retaliation and could be against WTO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tecting domestic industries may also may them inefficient in the long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6804000" y="333360"/>
            <a:ext cx="2160720" cy="2014200"/>
          </a:xfrm>
          <a:prstGeom prst="rect">
            <a:avLst/>
          </a:prstGeom>
          <a:solidFill>
            <a:srgbClr val="ffc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enditure switching polici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attempt to reduce spending on imports towards domestic goods an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www.amusementtechnicalsolutions.co.uk/warehouse/buy_british.gif"/>
          <p:cNvPicPr/>
          <p:nvPr/>
        </p:nvPicPr>
        <p:blipFill>
          <a:blip r:embed="rId2"/>
          <a:stretch/>
        </p:blipFill>
        <p:spPr>
          <a:xfrm>
            <a:off x="6516720" y="2637000"/>
            <a:ext cx="229248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4920" y="259920"/>
            <a:ext cx="604836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ethods of correcting a persistent current account def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xpenditure-reducing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lating the economy may reduce the current account but it is likely to lead to a fall in domestic employment and a fall in the rate of economic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030a0"/>
                </a:solidFill>
                <a:latin typeface="Arial"/>
                <a:ea typeface="Arial"/>
              </a:rPr>
              <a:t>Deflationary fiscal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creasing taxes and/or reducing government spending which will be politically unpop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030a0"/>
                </a:solidFill>
                <a:latin typeface="Arial"/>
                <a:ea typeface="Arial"/>
              </a:rPr>
              <a:t>Deflationary monetar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creasing the rate of interest and/reducing money 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t money would flow into the country’s capital account helping offset the deficit in the current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ly unpopular because payments on mortgages, loans and credit cards will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vestment may de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economic costs of reducing a large current account deficit suggest why it is important to prevent it from happ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s will actively pursue export promotion policies – trade missions, govt advertising campa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6804000" y="333360"/>
            <a:ext cx="2160720" cy="2014200"/>
          </a:xfrm>
          <a:prstGeom prst="rect">
            <a:avLst/>
          </a:prstGeom>
          <a:solidFill>
            <a:srgbClr val="ffc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enditure reducing polici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attempt to reduce overall spending in the economy (shifting AD to the le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spendlessandsavemore.net/wp-content/themes/thesis_18/custom/images/banner.png"/>
          <p:cNvPicPr/>
          <p:nvPr/>
        </p:nvPicPr>
        <p:blipFill>
          <a:blip r:embed="rId1"/>
          <a:stretch/>
        </p:blipFill>
        <p:spPr>
          <a:xfrm>
            <a:off x="6273720" y="2781360"/>
            <a:ext cx="2863800" cy="1020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ww.thedigeratilife.com/images/savingmoneybank.jpg"/>
          <p:cNvPicPr/>
          <p:nvPr/>
        </p:nvPicPr>
        <p:blipFill>
          <a:blip r:embed="rId2"/>
          <a:stretch/>
        </p:blipFill>
        <p:spPr>
          <a:xfrm>
            <a:off x="6443640" y="3933720"/>
            <a:ext cx="42861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489744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Marshall Lerner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eory when a country’s currency depreciates its exports will be cheaper and there will be an increase leading to an increase in the current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not necessarily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w much the price change has an effect on the demand depends on the PED of imports and ex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Marshall-Lerner condition is a rule that tells us how successful a depreciation or devaluation of a currency’s exchange rate will 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the demand for exports was inelastic and the price fell there proportionate increase in demand would be less than the proportionate decrease in pr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same for im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Complete student workpoint 24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5508720" y="189000"/>
            <a:ext cx="3456000" cy="2288520"/>
          </a:xfrm>
          <a:prstGeom prst="rect">
            <a:avLst/>
          </a:prstGeom>
          <a:solidFill>
            <a:srgbClr val="ffc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shall-Lerner condi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ducing the value of the exchange rate will only be successful if the total value of the PED for exports and the PED for imports is greater than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PEDexports + PEDimports &gt;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welkerswikinomics.com/blog/wp-content/uploads/2008/12/j-curve.png"/>
          <p:cNvPicPr/>
          <p:nvPr/>
        </p:nvPicPr>
        <p:blipFill>
          <a:blip r:embed="rId1"/>
          <a:stretch/>
        </p:blipFill>
        <p:spPr>
          <a:xfrm>
            <a:off x="5477040" y="3068640"/>
            <a:ext cx="34351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50560" y="115560"/>
            <a:ext cx="633708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Marshall Lerner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table below shows a study of trade elasticities in 2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almost all cases the short run values were lower than the long run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to be expected because PED become more elastic over time (ability to look for alternativ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ly the US  would meet the Marshall Lerner condition in the short run but all meet the condition in the long r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6875640" y="115920"/>
            <a:ext cx="2197080" cy="3660120"/>
          </a:xfrm>
          <a:prstGeom prst="rect">
            <a:avLst/>
          </a:prstGeom>
          <a:solidFill>
            <a:srgbClr val="ffc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shall-Lerner condi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ducing the value of the exchange rate will only be successful if the total value of the PED for exports and the PED for imports is greater than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PEDexports + PEDimports &gt;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rcRect l="27499" t="53261" r="26799" b="26173"/>
          <a:stretch/>
        </p:blipFill>
        <p:spPr>
          <a:xfrm>
            <a:off x="384120" y="3860640"/>
            <a:ext cx="8372520" cy="30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54720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e J-Curve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the short term a depreciation of the exchange rate may not improve the current account deficit of the balance of pay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is due to the low price elasticity of demand for imports and exports in the immediate aftermath of an exchange rat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itially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lum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imports will remain steady partly because contracts for imported goods will have been sig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ever, depreciation raises the sterling price of imports (that will also remain steady due to contracts with suppliers) caus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total spending on imports to 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port demand will also be inelastic in response to the exchange rate change in the short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fore the earnings from exports may be insufficient to compensate for higher spending on 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balance of trade may worsen (X to Y) in the immediate aftermath of a fall in the external value of the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is widely known as the J-Curve effect as seen in the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ED for exports and imports increases with time until it meets the Marshall-Lerner condition and satisfied leading to a movement from Y to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~PP21442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5614920" y="1268280"/>
            <a:ext cx="3478320" cy="379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08:03:14Z</dcterms:created>
  <dc:creator>Rom</dc:creator>
  <dc:description/>
  <dc:language>en-US</dc:language>
  <cp:lastModifiedBy>Julia Peters</cp:lastModifiedBy>
  <dcterms:modified xsi:type="dcterms:W3CDTF">2012-10-04T12:33:23Z</dcterms:modified>
  <cp:revision>38</cp:revision>
  <dc:subject/>
  <dc:title>Elasticities</dc:title>
</cp:coreProperties>
</file>